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B1A1-405A-47FA-8445-67F49C1DF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7BED-B7D8-49D7-951E-7A29597FE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3793-94B4-4F01-B47C-8851AA3A6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7126-CE4D-46B0-AE36-F89F0281E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6CC1-02CE-4419-99BB-D26571402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25CD-8224-439F-B184-E4AEE4ADF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38BE-2099-482A-98F4-4EF47D928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EA50-374D-4721-BF4E-5714417CF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8F98-E48E-420C-8585-31C842C57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65E2-FB51-4415-A91E-C23E9B86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8D78-9C48-474F-957B-99B9F7AB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F099-7B1C-4D66-9BEE-5A97EB20A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51DBF-E305-4F4A-A266-198DB5BE2E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00080" y="1038240"/>
          <a:ext cx="7145280" cy="478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1038240"/>
                    <a:ext cx="714528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2T22:31:47Z</dcterms:created>
  <dc:creator>Michael DiFrancesco</dc:creator>
  <dc:description/>
  <dc:language>en-US</dc:language>
  <cp:lastModifiedBy>Michael DiFrancesco</cp:lastModifiedBy>
  <dcterms:modified xsi:type="dcterms:W3CDTF">2007-11-22T22:32:18Z</dcterms:modified>
  <cp:revision>1</cp:revision>
  <dc:subject/>
  <dc:title>PowerPoint Presentation</dc:title>
</cp:coreProperties>
</file>